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280" y="75384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1"/>
          </p:nvPr>
        </p:nvSpPr>
        <p:spPr>
          <a:xfrm>
            <a:off x="384660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2"/>
          </p:nvPr>
        </p:nvSpPr>
        <p:spPr>
          <a:xfrm>
            <a:off x="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3"/>
          </p:nvPr>
        </p:nvSpPr>
        <p:spPr>
          <a:xfrm>
            <a:off x="384660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86BB7-D528-40F9-A682-E7A6133324F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Верхний колонтитул 3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E88FC-FF48-40A8-AAB7-798ED32EF48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60DE9-712F-4243-A869-775CBADB34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7B58B-9C26-4F0B-969C-0459EDDB1FC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81906-F159-4A42-8CD9-D493EBA8732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B0801-397C-4029-844D-D9D1EC9F2425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B8BB5-D44D-49ED-8FEA-14F597982E6B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7FAFE-D145-4C2D-85C3-FCF7734A651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09D71-5EB4-4A4D-95B9-5CBBF43E9B7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DF702237-CEFC-4139-88CD-295C2D381F8F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748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440"/>
            <a:ext cx="90597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136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6444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>
            <a:off x="6480" y="2695680"/>
            <a:ext cx="10063080" cy="2890800"/>
          </a:xfrm>
          <a:prstGeom prst="rect">
            <a:avLst/>
          </a:prstGeom>
          <a:solidFill>
            <a:srgbClr val="1b3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03280" y="2695680"/>
            <a:ext cx="9361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рганизация межведомственного взаимодействия по профилактике суицидов  среди несовершеннолет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бразовательных организаций с психиатрической службой сферы здравоохра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Свердловск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0" y="5837400"/>
            <a:ext cx="100695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Главный внештатный детский специалист – психиатр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Министра здравоохранения Свердловской област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Ирина Васильевна Гордее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6" descr=""/>
          <p:cNvPicPr/>
          <p:nvPr/>
        </p:nvPicPr>
        <p:blipFill>
          <a:blip r:embed="rId1"/>
          <a:stretch/>
        </p:blipFill>
        <p:spPr>
          <a:xfrm>
            <a:off x="4164120" y="123840"/>
            <a:ext cx="174780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944640" y="1444680"/>
            <a:ext cx="8540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тво здравоохран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вердлов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6480" y="2509920"/>
            <a:ext cx="10063080" cy="185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691080" y="645624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Arial"/>
              </a:rPr>
              <a:t>3 ноября  202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>
            <a:off x="5834160" y="6961320"/>
            <a:ext cx="47628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ая соединительная линия 21"/>
          <p:cNvSpPr/>
          <p:nvPr/>
        </p:nvSpPr>
        <p:spPr>
          <a:xfrm>
            <a:off x="3056040" y="6961320"/>
            <a:ext cx="79380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6520" y="26272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Скругленный прямоугольник 7"/>
          <p:cNvGrpSpPr/>
          <p:nvPr/>
        </p:nvGrpSpPr>
        <p:grpSpPr>
          <a:xfrm>
            <a:off x="237960" y="1011240"/>
            <a:ext cx="9625320" cy="1555920"/>
            <a:chOff x="237960" y="1011240"/>
            <a:chExt cx="9625320" cy="1555920"/>
          </a:xfrm>
        </p:grpSpPr>
        <p:pic>
          <p:nvPicPr>
            <p:cNvPr id="175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37960" y="1011240"/>
              <a:ext cx="962532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07800" y="1052640"/>
              <a:ext cx="94870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лексный план мер до 2025 года по совершенствованию системы профилактики суицидов среди несовершеннолетн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аспоряжение Правительства Российской Федерации от 26.04.2021 № 1058-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 8"/>
          <p:cNvGrpSpPr/>
          <p:nvPr/>
        </p:nvGrpSpPr>
        <p:grpSpPr>
          <a:xfrm>
            <a:off x="176040" y="5907240"/>
            <a:ext cx="9779040" cy="1431720"/>
            <a:chOff x="176040" y="5907240"/>
            <a:chExt cx="9779040" cy="143172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76040" y="5907240"/>
              <a:ext cx="97790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7280" y="5937120"/>
              <a:ext cx="9506160" cy="12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22228b"/>
                  </a:solidFill>
                  <a:latin typeface="Arial"/>
                </a:rPr>
  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</a:rPr>
                <a:t>протокол заседания ОКДН и ЗП от 28.07.2022 № 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9"/>
          <p:cNvGrpSpPr/>
          <p:nvPr/>
        </p:nvGrpSpPr>
        <p:grpSpPr>
          <a:xfrm>
            <a:off x="237960" y="3840120"/>
            <a:ext cx="9625320" cy="2182680"/>
            <a:chOff x="237960" y="3840120"/>
            <a:chExt cx="9625320" cy="2182680"/>
          </a:xfrm>
        </p:grpSpPr>
        <p:pic>
          <p:nvPicPr>
            <p:cNvPr id="18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37960" y="3840120"/>
              <a:ext cx="962532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1040" y="3882960"/>
              <a:ext cx="947916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орядок межведомственного взаимодействия органов и учреждений системы профилактики безнадзорности и правонарушений несовершеннолетних, а также иных организаций, расположенных на территории Свердловской области, по выявлению и учету несовершеннолетних и семей, находящихся в социально опасном положении, организации индивидуальной профилактической работы с несовершеннолетними и семьями, находящимися в социально опасном положени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становление Правительства Свердловской области от 02.04.2020 № 188-П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Прямоугольник 10"/>
          <p:cNvGrpSpPr/>
          <p:nvPr/>
        </p:nvGrpSpPr>
        <p:grpSpPr>
          <a:xfrm>
            <a:off x="225360" y="2541600"/>
            <a:ext cx="9631440" cy="1378080"/>
            <a:chOff x="225360" y="2541600"/>
            <a:chExt cx="9631440" cy="1378080"/>
          </a:xfrm>
        </p:grpSpPr>
        <p:pic>
          <p:nvPicPr>
            <p:cNvPr id="184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25360" y="2541600"/>
              <a:ext cx="96314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87280" y="2571840"/>
              <a:ext cx="950616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Times New Roman"/>
                </a:rPr>
                <a:t>Программа по профилактике суицидального поведения у несовершеннолетних на 2021-2023 год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распоряжение Правительства Свердловской обла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от 17.06.2021 № 295-Р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Shape 1"/>
          <p:cNvSpPr/>
          <p:nvPr/>
        </p:nvSpPr>
        <p:spPr>
          <a:xfrm>
            <a:off x="693720" y="93600"/>
            <a:ext cx="907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НОВНЫЕ НАПРАВЛЕНИЯ ПРОФИЛАКТИКИ СУИЦИДОВ В СВЕРДЛ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08000" y="189000"/>
            <a:ext cx="8637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НИТОРИНГ И ПРОФИЛАКТИКА СУИЦИД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ЕДЕНИЯ НЕСОВЕРШЕННОЛЕТ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552600" y="3809880"/>
            <a:ext cx="921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инамика завершенных суицид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совершеннолетних на 100. тыс.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Диаграмма 8236"/>
          <p:cNvGraphicFramePr/>
          <p:nvPr/>
        </p:nvGraphicFramePr>
        <p:xfrm>
          <a:off x="677880" y="4521240"/>
          <a:ext cx="8881920" cy="22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Диаграмма 82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4521240"/>
                    <a:ext cx="88819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79640" y="6813720"/>
          <a:ext cx="8429400" cy="698400"/>
        </p:xfrm>
        <a:graphic>
          <a:graphicData uri="http://schemas.openxmlformats.org/drawingml/2006/table">
            <a:tbl>
              <a:tblPr/>
              <a:tblGrid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91440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Диаграмма 3"/>
          <p:cNvGraphicFramePr/>
          <p:nvPr/>
        </p:nvGraphicFramePr>
        <p:xfrm>
          <a:off x="677880" y="1187280"/>
          <a:ext cx="8881920" cy="261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187280"/>
                    <a:ext cx="888192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4"/>
          <p:cNvSpPr/>
          <p:nvPr/>
        </p:nvSpPr>
        <p:spPr>
          <a:xfrm>
            <a:off x="1941480" y="86832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исло суицидальных попыток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Oval 11"/>
          <p:cNvGrpSpPr/>
          <p:nvPr/>
        </p:nvGrpSpPr>
        <p:grpSpPr>
          <a:xfrm>
            <a:off x="2968560" y="2359080"/>
            <a:ext cx="4187880" cy="3828960"/>
            <a:chOff x="2968560" y="2359080"/>
            <a:chExt cx="4187880" cy="3828960"/>
          </a:xfrm>
        </p:grpSpPr>
        <p:pic>
          <p:nvPicPr>
            <p:cNvPr id="196" name="Oval 11" descr=""/>
            <p:cNvPicPr/>
            <p:nvPr/>
          </p:nvPicPr>
          <p:blipFill>
            <a:blip r:embed="rId1"/>
            <a:stretch/>
          </p:blipFill>
          <p:spPr>
            <a:xfrm>
              <a:off x="2968560" y="2359080"/>
              <a:ext cx="418788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591000" y="2930400"/>
              <a:ext cx="2943000" cy="26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Text Box 1"/>
          <p:cNvSpPr/>
          <p:nvPr/>
        </p:nvSpPr>
        <p:spPr>
          <a:xfrm>
            <a:off x="503280" y="571680"/>
            <a:ext cx="8680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55440" y="3017880"/>
            <a:ext cx="3059280" cy="682560"/>
            <a:chOff x="55440" y="3017880"/>
            <a:chExt cx="3059280" cy="682560"/>
          </a:xfrm>
        </p:grpSpPr>
        <p:pic>
          <p:nvPicPr>
            <p:cNvPr id="200" name="Rectangle 3" descr=""/>
            <p:cNvPicPr/>
            <p:nvPr/>
          </p:nvPicPr>
          <p:blipFill>
            <a:blip r:embed="rId2"/>
            <a:stretch/>
          </p:blipFill>
          <p:spPr>
            <a:xfrm>
              <a:off x="55440" y="3017880"/>
              <a:ext cx="3059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1280" y="3032280"/>
              <a:ext cx="3029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разовательная 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Rectangle 4"/>
          <p:cNvGrpSpPr/>
          <p:nvPr/>
        </p:nvGrpSpPr>
        <p:grpSpPr>
          <a:xfrm>
            <a:off x="7126200" y="4260960"/>
            <a:ext cx="2871720" cy="682560"/>
            <a:chOff x="7126200" y="4260960"/>
            <a:chExt cx="2871720" cy="682560"/>
          </a:xfrm>
        </p:grpSpPr>
        <p:pic>
          <p:nvPicPr>
            <p:cNvPr id="203" name="Rectangle 4" descr=""/>
            <p:cNvPicPr/>
            <p:nvPr/>
          </p:nvPicPr>
          <p:blipFill>
            <a:blip r:embed="rId3"/>
            <a:stretch/>
          </p:blipFill>
          <p:spPr>
            <a:xfrm>
              <a:off x="7126200" y="4260960"/>
              <a:ext cx="2871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143840" y="4273560"/>
              <a:ext cx="2836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дицинская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Rectangle 5"/>
          <p:cNvGrpSpPr/>
          <p:nvPr/>
        </p:nvGrpSpPr>
        <p:grpSpPr>
          <a:xfrm>
            <a:off x="128520" y="5168880"/>
            <a:ext cx="3071880" cy="682560"/>
            <a:chOff x="128520" y="5168880"/>
            <a:chExt cx="3071880" cy="682560"/>
          </a:xfrm>
        </p:grpSpPr>
        <p:pic>
          <p:nvPicPr>
            <p:cNvPr id="206" name="Rectangle 5" descr=""/>
            <p:cNvPicPr/>
            <p:nvPr/>
          </p:nvPicPr>
          <p:blipFill>
            <a:blip r:embed="rId4"/>
            <a:stretch/>
          </p:blipFill>
          <p:spPr>
            <a:xfrm>
              <a:off x="128520" y="5168880"/>
              <a:ext cx="3071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41120" y="5184720"/>
              <a:ext cx="30434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ый орган МВ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Rectangle 6"/>
          <p:cNvGrpSpPr/>
          <p:nvPr/>
        </p:nvGrpSpPr>
        <p:grpSpPr>
          <a:xfrm>
            <a:off x="7047000" y="2901960"/>
            <a:ext cx="2950920" cy="682560"/>
            <a:chOff x="7047000" y="2901960"/>
            <a:chExt cx="2950920" cy="682560"/>
          </a:xfrm>
        </p:grpSpPr>
        <p:pic>
          <p:nvPicPr>
            <p:cNvPr id="209" name="Rectangle 6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2950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059600" y="2914560"/>
              <a:ext cx="2921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рганы местного самоу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Rectangle 8"/>
          <p:cNvGrpSpPr/>
          <p:nvPr/>
        </p:nvGrpSpPr>
        <p:grpSpPr>
          <a:xfrm>
            <a:off x="6791400" y="5413320"/>
            <a:ext cx="3206520" cy="1243080"/>
            <a:chOff x="6791400" y="5413320"/>
            <a:chExt cx="3206520" cy="1243080"/>
          </a:xfrm>
        </p:grpSpPr>
        <p:pic>
          <p:nvPicPr>
            <p:cNvPr id="212" name="Rectangle 8" descr=""/>
            <p:cNvPicPr/>
            <p:nvPr/>
          </p:nvPicPr>
          <p:blipFill>
            <a:blip r:embed="rId6"/>
            <a:stretch/>
          </p:blipFill>
          <p:spPr>
            <a:xfrm>
              <a:off x="6791400" y="5413320"/>
              <a:ext cx="32065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805440" y="5430960"/>
              <a:ext cx="31752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 социальной политики, организации социального обслуживания насе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Rectangle 9"/>
          <p:cNvGrpSpPr/>
          <p:nvPr/>
        </p:nvGrpSpPr>
        <p:grpSpPr>
          <a:xfrm>
            <a:off x="3041640" y="1420920"/>
            <a:ext cx="3871800" cy="682560"/>
            <a:chOff x="3041640" y="1420920"/>
            <a:chExt cx="3871800" cy="682560"/>
          </a:xfrm>
        </p:grpSpPr>
        <p:pic>
          <p:nvPicPr>
            <p:cNvPr id="215" name="Rectangle 9" descr=""/>
            <p:cNvPicPr/>
            <p:nvPr/>
          </p:nvPicPr>
          <p:blipFill>
            <a:blip r:embed="rId7"/>
            <a:stretch/>
          </p:blipFill>
          <p:spPr>
            <a:xfrm>
              <a:off x="3041640" y="1420920"/>
              <a:ext cx="3871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054240" y="1436760"/>
              <a:ext cx="38451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ая комисс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делам несовершеннолетн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471840" y="2984400"/>
            <a:ext cx="33004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Информирование родите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Взаимное информирование и персонифицированный уче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Организация помощи в соответствии с профилем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Методическая взаимопомощ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Контроль эффективност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Принятие мер при отказе от помощ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461880" y="293760"/>
            <a:ext cx="9321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ВЕРШЕНСТВОВАНИЕ МЕЖВЕДОМСТВЕННОГО ВЗАИМО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CustomShape 1"/>
          <p:cNvSpPr/>
          <p:nvPr/>
        </p:nvSpPr>
        <p:spPr>
          <a:xfrm flipV="1" rot="10800000">
            <a:off x="-97200" y="979560"/>
            <a:ext cx="287964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остановление Правительства Свердловской области от 02.04.2020 N 188-П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3"/>
          <p:cNvSpPr/>
          <p:nvPr/>
        </p:nvSpPr>
        <p:spPr>
          <a:xfrm>
            <a:off x="6962760" y="773280"/>
            <a:ext cx="3156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(утвержден  протоколом заседания областной КДП от 28.07.2022 №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ustomShape 1"/>
          <p:cNvSpPr/>
          <p:nvPr/>
        </p:nvSpPr>
        <p:spPr>
          <a:xfrm flipV="1" rot="10800000">
            <a:off x="144000" y="6020280"/>
            <a:ext cx="3116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риказ Министерства здравоохранения Свердловской области от 12.05.2020 № 806-п в редакции от 07.07.202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Shape 1"/>
          <p:cNvSpPr/>
          <p:nvPr/>
        </p:nvSpPr>
        <p:spPr>
          <a:xfrm>
            <a:off x="741240" y="46656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диные подходы при 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Shape 2"/>
          <p:cNvSpPr/>
          <p:nvPr/>
        </p:nvSpPr>
        <p:spPr>
          <a:xfrm>
            <a:off x="719280" y="1076400"/>
            <a:ext cx="9072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нн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явление несовершеннолетних, поведение которых указывает на отклонения в состоянии их психического здоровья в образовательных организ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тивационная работа с законными представителями несовершеннолетних - необходимость проведения медицинского обследования у врача-психиатра или медицинского психоло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филактическая работа непосредственно с несовершеннолетними. Отработка системы взаимодействия «психолог общеобразовательной организации - медицинский психолог детской поликлиники – врач-психиат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планирование и организация межведомственных профилактических мероприятий антисуицидальной направл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Shape 1"/>
          <p:cNvSpPr/>
          <p:nvPr/>
        </p:nvSpPr>
        <p:spPr>
          <a:xfrm>
            <a:off x="1008000" y="4665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Shape 2"/>
          <p:cNvSpPr/>
          <p:nvPr/>
        </p:nvSpPr>
        <p:spPr>
          <a:xfrm>
            <a:off x="576360" y="1042920"/>
            <a:ext cx="91440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Привлечение ресурсов по ряду направлений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осстановление (поддержка)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детско-родительских отно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информиров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о  службах «телефон доверия»: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с единым номером –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8-800-2000-122,  в сфере здравоохранения  - 8- 800-300-11-00 / 8-800-300-83-8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существующих потенциальных угроз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и наличии онлайн-групп, содержащих суицидальный конте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возможностях «безопасного Интернета»,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граничение от негативной информации в сети Интер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 признак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того, что ребенок попал под влияние групп деструктивной направлен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 правильно реагировать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на появившийся у ребенка интерес к интернет-сайтам, носящим деструктивный характер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 установить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с ребенком доверительные отношения в такой ситуа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 кому обратиться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, чтобы уберечь несовершеннолетнего от реальной опасности (информация о готовящемся суициде или иных противоправных действия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становлени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поддерж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олотно 1"/>
          <p:cNvGrpSpPr/>
          <p:nvPr/>
        </p:nvGrpSpPr>
        <p:grpSpPr>
          <a:xfrm>
            <a:off x="471600" y="1309680"/>
            <a:ext cx="9405720" cy="5986440"/>
            <a:chOff x="471600" y="1309680"/>
            <a:chExt cx="9405720" cy="5986440"/>
          </a:xfrm>
        </p:grpSpPr>
        <p:sp>
          <p:nvSpPr>
            <p:cNvPr id="227" name="Прямоугольник 2"/>
            <p:cNvSpPr/>
            <p:nvPr/>
          </p:nvSpPr>
          <p:spPr>
            <a:xfrm>
              <a:off x="477720" y="1309680"/>
              <a:ext cx="8587080" cy="59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оугольник 3"/>
            <p:cNvSpPr/>
            <p:nvPr/>
          </p:nvSpPr>
          <p:spPr>
            <a:xfrm>
              <a:off x="1798560" y="1371240"/>
              <a:ext cx="6703920" cy="912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ГАУЗ СО «Свердловская областная клиническая психиатрическая больниц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Блок-схема: подготовка 4"/>
            <p:cNvSpPr/>
            <p:nvPr/>
          </p:nvSpPr>
          <p:spPr>
            <a:xfrm>
              <a:off x="3375000" y="2840040"/>
              <a:ext cx="3471840" cy="1849320"/>
            </a:xfrm>
            <a:prstGeom prst="flowChartPreparation">
              <a:avLst/>
            </a:prstGeom>
            <a:solidFill>
              <a:srgbClr val="7878de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Областной центр психологической поддержки детей и подростк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Блок-схема: альтернативный процесс 5"/>
            <p:cNvSpPr/>
            <p:nvPr/>
          </p:nvSpPr>
          <p:spPr>
            <a:xfrm>
              <a:off x="471600" y="5435640"/>
              <a:ext cx="3201840" cy="17082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Блок-схема: альтернативный процесс 6"/>
            <p:cNvSpPr/>
            <p:nvPr/>
          </p:nvSpPr>
          <p:spPr>
            <a:xfrm>
              <a:off x="7334280" y="3713040"/>
              <a:ext cx="2365200" cy="11761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Несовершеннолетни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 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родител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Блок-схема: альтернативный процесс 7"/>
            <p:cNvSpPr/>
            <p:nvPr/>
          </p:nvSpPr>
          <p:spPr>
            <a:xfrm>
              <a:off x="6851520" y="5386320"/>
              <a:ext cx="3025800" cy="175716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Блок-схема: альтернативный процесс 8"/>
            <p:cNvSpPr/>
            <p:nvPr/>
          </p:nvSpPr>
          <p:spPr>
            <a:xfrm>
              <a:off x="4179960" y="5130720"/>
              <a:ext cx="2212920" cy="18558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Блок-схема: альтернативный процесс 9"/>
            <p:cNvSpPr/>
            <p:nvPr/>
          </p:nvSpPr>
          <p:spPr>
            <a:xfrm>
              <a:off x="471600" y="3817800"/>
              <a:ext cx="2355840" cy="13129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10"/>
            <p:cNvSpPr/>
            <p:nvPr/>
          </p:nvSpPr>
          <p:spPr>
            <a:xfrm>
              <a:off x="5033880" y="2292480"/>
              <a:ext cx="8280" cy="50760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Прямая со стрелкой 11"/>
            <p:cNvCxnSpPr/>
            <p:nvPr/>
          </p:nvCxnSpPr>
          <p:spPr>
            <a:xfrm flipV="1">
              <a:off x="2884680" y="4214520"/>
              <a:ext cx="753840" cy="100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7" name="Прямая со стрелкой 12"/>
            <p:cNvCxnSpPr/>
            <p:nvPr/>
          </p:nvCxnSpPr>
          <p:spPr>
            <a:xfrm flipV="1">
              <a:off x="2827440" y="4515480"/>
              <a:ext cx="1023120" cy="871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" name="Прямая со стрелкой 13"/>
            <p:cNvCxnSpPr/>
            <p:nvPr/>
          </p:nvCxnSpPr>
          <p:spPr>
            <a:xfrm>
              <a:off x="5123160" y="4691160"/>
              <a:ext cx="17640" cy="3952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" name="Прямая со стрелкой 14"/>
            <p:cNvCxnSpPr/>
            <p:nvPr/>
          </p:nvCxnSpPr>
          <p:spPr>
            <a:xfrm>
              <a:off x="6086160" y="4516560"/>
              <a:ext cx="1102320" cy="799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0" name="Прямая со стрелкой 15"/>
            <p:cNvCxnSpPr/>
            <p:nvPr/>
          </p:nvCxnSpPr>
          <p:spPr>
            <a:xfrm flipV="1">
              <a:off x="6631200" y="4117680"/>
              <a:ext cx="725040" cy="1044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41" name="TextShape 1"/>
          <p:cNvSpPr/>
          <p:nvPr/>
        </p:nvSpPr>
        <p:spPr>
          <a:xfrm>
            <a:off x="741240" y="40464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профилактической работы в рамках межведомственного взаимо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 flipV="1" rot="10800000">
            <a:off x="6010200" y="2597040"/>
            <a:ext cx="38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1"/>
          <p:cNvSpPr/>
          <p:nvPr/>
        </p:nvSpPr>
        <p:spPr>
          <a:xfrm>
            <a:off x="401760" y="3924360"/>
            <a:ext cx="24685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  <a:ea typeface="Calibri"/>
              </a:rPr>
              <a:t>образовательные организ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b9"/>
                </a:solidFill>
                <a:latin typeface="Arial"/>
                <a:ea typeface="Calibri"/>
              </a:rPr>
              <a:t>Педагоги – психологи, родители, несовершеннолет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22"/>
          <p:cNvSpPr/>
          <p:nvPr/>
        </p:nvSpPr>
        <p:spPr>
          <a:xfrm flipV="1" rot="10800000">
            <a:off x="615600" y="5507640"/>
            <a:ext cx="301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ГБУ СО «Центр психолого-педагогической, медицинской и социальной помощи «Ладо»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23"/>
          <p:cNvSpPr/>
          <p:nvPr/>
        </p:nvSpPr>
        <p:spPr>
          <a:xfrm>
            <a:off x="4140360" y="5051520"/>
            <a:ext cx="2206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МБУ «Центр социально-психологической помощи детям и молодежи «Форпост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28"/>
          <p:cNvSpPr/>
          <p:nvPr/>
        </p:nvSpPr>
        <p:spPr>
          <a:xfrm flipV="1" rot="10800000">
            <a:off x="6162480" y="274860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9"/>
          <p:cNvSpPr/>
          <p:nvPr/>
        </p:nvSpPr>
        <p:spPr>
          <a:xfrm flipV="1" rot="10800000">
            <a:off x="6786360" y="298656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30"/>
          <p:cNvSpPr/>
          <p:nvPr/>
        </p:nvSpPr>
        <p:spPr>
          <a:xfrm flipV="1" rot="10800000">
            <a:off x="6781680" y="2986560"/>
            <a:ext cx="380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31"/>
          <p:cNvSpPr/>
          <p:nvPr/>
        </p:nvSpPr>
        <p:spPr>
          <a:xfrm flipV="1" rot="10800000">
            <a:off x="6346440" y="2504160"/>
            <a:ext cx="3738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</a:rPr>
              <a:t>Амбулаторную профилактическую, диагностическую и коррекционную психологическую помощь детям и подросткам Свердловской области, в том числе попавшим в трудную жизненную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2"/>
          <p:cNvSpPr/>
          <p:nvPr/>
        </p:nvSpPr>
        <p:spPr>
          <a:xfrm flipV="1" rot="10800000">
            <a:off x="431280" y="2507760"/>
            <a:ext cx="334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формационно-методическое обеспечение работы специалистов субъектов системы профилактики по профилактике суицидального поведения, выявлению ранних суицидальных признаков у несовершеннолетн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4"/>
          <p:cNvSpPr/>
          <p:nvPr/>
        </p:nvSpPr>
        <p:spPr>
          <a:xfrm flipV="1" rot="10800000">
            <a:off x="6654960" y="5529960"/>
            <a:ext cx="323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Межведомственная рабочая группа по взаимодействию в сфере профилактики суицидального поведения несовершеннолетних прокуратуры Сверд</a:t>
            </a: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ловской </a:t>
            </a: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Shape 1"/>
          <p:cNvSpPr/>
          <p:nvPr/>
        </p:nvSpPr>
        <p:spPr>
          <a:xfrm>
            <a:off x="7209000" y="142236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3635280" y="2355840"/>
            <a:ext cx="304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 9 мес. 2023 года бол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800 обращ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4280" y="177480"/>
            <a:ext cx="68356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Кризис у подростка как распознать и оказать помощь(1).png"/>
          <p:cNvPicPr/>
          <p:nvPr/>
        </p:nvPicPr>
        <p:blipFill>
          <a:blip r:embed="rId1"/>
          <a:stretch/>
        </p:blipFill>
        <p:spPr>
          <a:xfrm>
            <a:off x="1440000" y="521964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Детский телефон.png"/>
          <p:cNvPicPr/>
          <p:nvPr/>
        </p:nvPicPr>
        <p:blipFill>
          <a:blip r:embed="rId2"/>
          <a:stretch/>
        </p:blipFill>
        <p:spPr>
          <a:xfrm>
            <a:off x="7056360" y="137952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1727280" y="6875640"/>
            <a:ext cx="7129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suicide@mis66.ru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елефон: (343) 261-97-3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3"/>
          <a:stretch/>
        </p:blipFill>
        <p:spPr>
          <a:xfrm>
            <a:off x="4968720" y="3614760"/>
            <a:ext cx="4897440" cy="3462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Рисунок 7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4735440" cy="334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Shape 1"/>
          <p:cNvSpPr/>
          <p:nvPr/>
        </p:nvSpPr>
        <p:spPr>
          <a:xfrm>
            <a:off x="503280" y="25092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едложения по совершенствованию межведомственного взаимодействия в сфере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Shape 2"/>
          <p:cNvSpPr/>
          <p:nvPr/>
        </p:nvSpPr>
        <p:spPr>
          <a:xfrm>
            <a:off x="503280" y="1079640"/>
            <a:ext cx="9072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чальникам управления образовани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нализ эффективности межведомственного взаимодействия по раннему выявлению несовершеннолетних, имеющих отклонения в психическом здоровье, в учреждениях системы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ланы мероприятий по раннему выявлению несовершеннолетних, имеющих отклонения в психическом здоровье, и организации с ними профилактическ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ководителям образовательных организац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ть проведение мотивационной работы с родителями несовершеннолетних, имеющих отклонения в психическом здоровье, по инициированию их обращения к врачу - психиатру по месту житель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межведомственное взаимодействие со специалистами Областного центра психологической поддержки детей и подростков ГАУЗ СО «Свердловская областная клиническая психиатрическая больница» с целью раннего выявления несовершеннолетних, имеющих отклонения в психическом здоровье, для организации с ними профилактической работы в муниципальных образованиях Свердл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3T23:50:40Z</dcterms:created>
  <dc:creator>Перцель Михаил Григорьевич</dc:creator>
  <dc:description/>
  <dc:language>en-US</dc:language>
  <cp:lastModifiedBy>Литвищенко Ирина Александровна</cp:lastModifiedBy>
  <cp:lastPrinted>2023-11-01T11:16:41Z</cp:lastPrinted>
  <dcterms:modified xsi:type="dcterms:W3CDTF">2023-11-02T14:30:51Z</dcterms:modified>
  <cp:revision>99</cp:revision>
  <dc:subject/>
  <dc:title>Blue Cu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24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4</vt:r8>
  </property>
</Properties>
</file>